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DE6-2DA8-4134-BECD-CD0F6466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027-9296-4B14-B209-9F7D3EF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FC4-DBD5-487A-897B-14AB4AAC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AC9-D48C-4112-A075-8DAAC54E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C79-8404-47C5-9A43-F8969D4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32F-090C-4F7E-AE50-80D19847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58B-177C-4A80-A47E-D5ED9C2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7E7-7C06-4D4A-93FB-2106938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E7A-6DEC-43F8-B112-66D7FDDD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99E-BBFC-4A56-853B-B7EADEA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F25-93B3-4D04-89EF-1A0D763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48E-91C6-4CDA-B35B-74EE357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01F9-CB12-4508-8A6F-3BF37687B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3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48120" y="3049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The Nine Crusad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10:19Z</dcterms:created>
  <dc:creator>Wingar95P</dc:creator>
  <dc:description/>
  <dc:language>en-US</dc:language>
  <cp:lastModifiedBy>Wingar95P</cp:lastModifiedBy>
  <dcterms:modified xsi:type="dcterms:W3CDTF">2010-02-09T16:24:59Z</dcterms:modified>
  <cp:revision>8</cp:revision>
  <dc:subject/>
  <dc:title>Slide 1</dc:title>
</cp:coreProperties>
</file>